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A340-A41C-4548-8542-F6F467A03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46D5-8246-42BD-8575-9984D21C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AAB-2957-48D8-8337-2A343442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5A2-23E6-4715-A322-8D4F9C66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15D-B3D2-4664-B1D9-2DE278AE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F68-CD1A-4424-807E-E99E49C6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C1E-66DB-433F-A62A-2E02F42F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5A3-B506-4C94-AB93-0769FAE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3F1-E997-4B43-A060-93EEDDF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5CA-3B21-4B5B-B0EB-F341084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BD2-6C15-4A50-88BD-9945CCE7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B51-82D7-4C4C-80A4-DC36B6CE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616-E4D5-4734-8057-A7A4972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6CC-1AC6-4129-9BF0-5F2CEDA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9E6-D8BB-42E9-9D2D-F8FDDF8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A5EC-EA81-4911-A1CA-4376219CF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Cisco ASR 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F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494240" y="3403440"/>
            <a:ext cx="1555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RSP1A-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186080" y="3533760"/>
            <a:ext cx="77184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RSP1B-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86080" y="3533760"/>
            <a:ext cx="77184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SR-903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1680" y="3395520"/>
            <a:ext cx="1520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SR-903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1680" y="3395520"/>
            <a:ext cx="1520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616200" y="534960"/>
            <a:ext cx="191160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16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1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4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PWR550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368960" y="3551400"/>
            <a:ext cx="40608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PWR550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368960" y="3551400"/>
            <a:ext cx="40608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3-01-11T17:21:16Z</dcterms:modified>
  <cp:revision>5</cp:revision>
  <dc:subject/>
  <dc:title>Slide 1</dc:title>
</cp:coreProperties>
</file>